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468-1FB7-4706-9DEE-B7E47595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BF4-BE42-4425-8332-24A7D496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8E9-2586-4461-87A8-929BA3B8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1CB-7B97-4028-958C-E2523A36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4F3E-056B-4D32-9A10-5251223F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D451-5571-4054-8EC1-7FA7EFE7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8FCE-4392-4C02-B6F1-EAA5BFD1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00F6-FA2D-4B3D-8D96-F7C29340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1D52-C439-499B-BADB-8005A117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EB7-59A3-4C4A-847E-7379D86D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FA6-110E-4C06-A257-B1AA9AB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BE4-A825-499D-A00B-4399D0C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5F7-502B-418A-80B0-45C7D7B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A99A-B364-4EAE-923D-4CA8E354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0C9-A544-4449-8C5D-24F71B87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BB7-11CF-403E-8594-3DC1C222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58D-AD57-4C0A-9798-359A372E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AA6-D314-4193-B101-F9610237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539-270A-4791-B24B-E9288F0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663-AF36-4434-946D-8B58F589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265-D627-49D0-9840-622B693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70E-A91E-4FAB-9C13-989833D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516-F616-4186-8E23-67BCA36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F65-3CA7-41F5-972B-ED4F893A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D83-6943-4824-B163-BD73EB8A9B49}" type="slidenum"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00B-996A-41F0-B823-27329A08D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838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How to Effectively Try a Business Case to a Jury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057400"/>
            <a:ext cx="7696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Papyrus"/>
              </a:rPr>
              <a:t>Presented to the Business Litigation Committee 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Papyrus"/>
              </a:rPr>
              <a:t>of the Boston Bar Association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Papyrus"/>
              </a:rPr>
              <a:t>November 21, 2005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181480"/>
            <a:ext cx="5562720" cy="9842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dward P. Schwartz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EPS-Consulting.com</a:t>
            </a:r>
            <a:endParaRPr b="0" lang="en-US" sz="20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F0C-EEC6-4BF0-A0B9-22C1AE42D4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 Juries Help Out Local Litigants?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nitive Award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1143000"/>
                <a:gridCol w="990720"/>
                <a:gridCol w="228600"/>
                <a:gridCol w="1066680"/>
                <a:gridCol w="914400"/>
                <a:gridCol w="1143000"/>
                <a:gridCol w="1066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00ff"/>
                          </a:solidFill>
                          <a:uFillTx/>
                          <a:latin typeface="Techno"/>
                        </a:rPr>
                        <a:t>Mean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00ff"/>
                          </a:solidFill>
                          <a:uFillTx/>
                          <a:latin typeface="Techno"/>
                        </a:rPr>
                        <a:t>Awards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00ff"/>
                          </a:solidFill>
                          <a:uFillTx/>
                          <a:latin typeface="Techno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00ff"/>
                          </a:solidFill>
                          <a:uFillTx/>
                          <a:latin typeface="Techno"/>
                        </a:rPr>
                        <a:t>Awards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 Narrow"/>
                        </a:rPr>
                        <a:t>Defendant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 Narrow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 Narrow"/>
                        </a:rPr>
                        <a:t>Defendant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cc"/>
                          </a:solidFill>
                          <a:latin typeface="Arial Narrow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Local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Local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330099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Plaintiff Location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Local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33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49.44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58.01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Plaintiff Location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Local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33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33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37.27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42.06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33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25.00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25.00</a:t>
                      </a:r>
                      <a:endParaRPr b="0" lang="en-US" sz="16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0099"/>
                      </a:solidFill>
                    </a:lnL>
                    <a:lnR w="18720">
                      <a:solidFill>
                        <a:srgbClr val="330099"/>
                      </a:solidFill>
                    </a:lnR>
                    <a:lnT w="18720">
                      <a:solidFill>
                        <a:srgbClr val="330099"/>
                      </a:solidFill>
                    </a:lnT>
                    <a:lnB w="18720">
                      <a:solidFill>
                        <a:srgbClr val="330099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049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able 4.2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nitive Damages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F90-ADEE-484A-9675-118EDB9D70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uditory and Visual Cues of Deception</a:t>
            </a:r>
            <a:br>
              <a:rPr sz="4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Zuckerman, DePaulo and Rosenthal 19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 jurors infer truthfulness of testimony from verbal and visual cues?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ubjects saw/heard taped testimony which varied along three dimensions: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Audible Speech. 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Visible Body.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cc"/>
                </a:solidFill>
                <a:latin typeface="Arial"/>
              </a:rPr>
              <a:t>Visible Face.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subjects only read a transcript of testimony.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47F-6C43-4718-B27E-D424690D4F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uditory and Visual Cues of Deception: Results</a:t>
            </a:r>
            <a:br>
              <a:rPr sz="4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Zuckerman, DePaulo and Rosenthal 19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9320" y="2057400"/>
          <a:ext cx="7924680" cy="39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9246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295280" y="5562720"/>
            <a:ext cx="3581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nscript Only: 0.70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ne Only: 0.20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320" y="150192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ntries are in Standard Deviation Units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DA5-D433-4AA0-8176-473CE0505E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ice on Trial Strate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66"/>
                </a:solidFill>
                <a:latin typeface="Arial"/>
              </a:rPr>
              <a:t>What do we know?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istical Verdict Studies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ck Jury Experiments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What can we extrapolate from what we know?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ed Studies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rience with Similar Cases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cc"/>
                </a:solidFill>
                <a:latin typeface="Arial"/>
              </a:rPr>
              <a:t>What do we need to study?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 our own survey, focus group or mock trial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DB5-F206-4B71-A0FE-84AC17D364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tion Aggre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cc"/>
                </a:solidFill>
                <a:latin typeface="Times New Roman"/>
              </a:rPr>
              <a:t>Meter Readers (Lopes, 1986, Hogarth and Einhorn, 1992)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Algebraic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Balancing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Anchoring and Adjustment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tory Tellers (Pennington and Hastie, 1991)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Narrative Construction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eek Coherence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More prevalent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BB8-21BA-4A60-A5CB-6251540367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ndsight B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utura"/>
              </a:rPr>
              <a:t>Jurors tend to treat low a probability event that actually occurs as much more likely than it is. 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Jurors will believe it to have been more easily anticipated and will assign greater urgency to guarding against it.</a:t>
            </a:r>
            <a:endParaRPr b="0" lang="en-US" sz="2000" spc="-1" strike="noStrike">
              <a:solidFill>
                <a:srgbClr val="ff00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Jurors often conclude that parties to a contract should have anticipated every contingency.</a:t>
            </a:r>
            <a:endParaRPr b="0" lang="en-US" sz="2000" spc="-1" strike="noStrike">
              <a:solidFill>
                <a:srgbClr val="ff00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Jurors tend to blame “the big guy, with all his fancy, high-priced lawyers.”</a:t>
            </a:r>
            <a:endParaRPr b="0" lang="en-US" sz="2000" spc="-1" strike="noStrike">
              <a:solidFill>
                <a:srgbClr val="ff00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6666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Futura"/>
              </a:rPr>
              <a:t>A second order effect is that the more bizarre the circumstances, the more jurors tend to believe that it must have been “somebody’s fault.” 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cc66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Futura"/>
              </a:rPr>
              <a:t>One strategy for overcoming hindsight bias is to argue by analogy to something familiar to jurors. </a:t>
            </a: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4C9-49C4-4D33-89C9-46870079B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ssue Salience and Persuasion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tty et al., 198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057400"/>
            <a:ext cx="5943600" cy="335268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2320" y="5486400"/>
            <a:ext cx="6019560" cy="612000"/>
            <a:chOff x="2362320" y="5486400"/>
            <a:chExt cx="6019560" cy="612000"/>
          </a:xfrm>
        </p:grpSpPr>
        <p:sp>
          <p:nvSpPr>
            <p:cNvPr id="135" name=""/>
            <p:cNvSpPr/>
            <p:nvPr/>
          </p:nvSpPr>
          <p:spPr>
            <a:xfrm>
              <a:off x="4343400" y="5638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Issue Saliency</a:t>
              </a:r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2320" y="5486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5486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66680" y="1792440"/>
            <a:ext cx="1295640" cy="4038480"/>
            <a:chOff x="1066680" y="1792440"/>
            <a:chExt cx="1295640" cy="4038480"/>
          </a:xfrm>
        </p:grpSpPr>
        <p:sp>
          <p:nvSpPr>
            <p:cNvPr id="139" name=""/>
            <p:cNvSpPr/>
            <p:nvPr/>
          </p:nvSpPr>
          <p:spPr>
            <a:xfrm rot="16200000">
              <a:off x="-722520" y="3581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Agreement with Message</a:t>
              </a:r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0574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50292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14600" y="2063160"/>
            <a:ext cx="5410080" cy="539640"/>
            <a:chOff x="2514600" y="2063160"/>
            <a:chExt cx="5410080" cy="539640"/>
          </a:xfrm>
        </p:grpSpPr>
        <p:sp>
          <p:nvSpPr>
            <p:cNvPr id="143" name=""/>
            <p:cNvSpPr/>
            <p:nvPr/>
          </p:nvSpPr>
          <p:spPr>
            <a:xfrm flipV="1">
              <a:off x="2514600" y="2361960"/>
              <a:ext cx="5410080" cy="228600"/>
            </a:xfrm>
            <a:prstGeom prst="line">
              <a:avLst/>
            </a:prstGeom>
            <a:ln cap="sq"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475200">
              <a:off x="3124080" y="213336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Expert with strong argument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590920" y="2783880"/>
            <a:ext cx="5333760" cy="1559520"/>
            <a:chOff x="2590920" y="2783880"/>
            <a:chExt cx="5333760" cy="1559520"/>
          </a:xfrm>
        </p:grpSpPr>
        <p:sp>
          <p:nvSpPr>
            <p:cNvPr id="146" name=""/>
            <p:cNvSpPr/>
            <p:nvPr/>
          </p:nvSpPr>
          <p:spPr>
            <a:xfrm>
              <a:off x="2590920" y="2895480"/>
              <a:ext cx="5333760" cy="14479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932400">
              <a:off x="3580560" y="327672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pert with weak argument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743200" y="2430720"/>
            <a:ext cx="5516280" cy="2141280"/>
            <a:chOff x="2743200" y="2430720"/>
            <a:chExt cx="5516280" cy="2141280"/>
          </a:xfrm>
        </p:grpSpPr>
        <p:sp>
          <p:nvSpPr>
            <p:cNvPr id="149" name=""/>
            <p:cNvSpPr/>
            <p:nvPr/>
          </p:nvSpPr>
          <p:spPr>
            <a:xfrm flipV="1">
              <a:off x="2743200" y="2819520"/>
              <a:ext cx="5257800" cy="175248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44600">
              <a:off x="2867040" y="3246120"/>
              <a:ext cx="54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Non-Expert with              strong argument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43200" y="4522680"/>
            <a:ext cx="5257800" cy="658800"/>
            <a:chOff x="2743200" y="4522680"/>
            <a:chExt cx="5257800" cy="658800"/>
          </a:xfrm>
        </p:grpSpPr>
        <p:sp>
          <p:nvSpPr>
            <p:cNvPr id="152" name=""/>
            <p:cNvSpPr/>
            <p:nvPr/>
          </p:nvSpPr>
          <p:spPr>
            <a:xfrm>
              <a:off x="2743200" y="4876920"/>
              <a:ext cx="5257800" cy="304560"/>
            </a:xfrm>
            <a:prstGeom prst="line">
              <a:avLst/>
            </a:prstGeom>
            <a:ln cap="sq" w="3816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0600">
              <a:off x="3580920" y="46479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ff"/>
                  </a:solidFill>
                  <a:latin typeface="Arial"/>
                </a:rPr>
                <a:t>Non-Expert with weak argument</a:t>
              </a:r>
              <a:endParaRPr b="0" lang="en-US" sz="2000" spc="-1" strike="noStrike">
                <a:solidFill>
                  <a:srgbClr val="ff00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762-A045-4FD4-B8CE-E2E25227DA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ctors Affecting Jury Perform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cc"/>
                </a:solidFill>
                <a:latin typeface="Times New Roman"/>
              </a:rPr>
              <a:t>Give Instructions First.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s Jury Recollection of Relevant Information (Elwork, Sales, and Alfini, 1977)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Defanging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ering bad news yourself allows jurors to provide counter-arguments.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 The “Hired Gun” effect.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B50-7E80-4925-842D-B3A83F96B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amage Calcul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cc"/>
                </a:solidFill>
                <a:latin typeface="Arial"/>
              </a:rPr>
              <a:t>A variety of strategies are employed (Goodman, Greene, and Loftus, 1989)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f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ffe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60ffe9"/>
                </a:solidFill>
                <a:latin typeface="Arial"/>
              </a:rPr>
              <a:t>Ad damnum” is often used as anchor for award. (Zuehl, 1982)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A “counter-anchor” can affect the jury’s calculations. (Raitz, et al., 1990)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Itemized verdict forms can reduce excessive damage awards. (Zuehl, 1982)</a:t>
            </a:r>
            <a:endParaRPr b="0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895-82EA-426A-93B6-FC3D796B8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uehl’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d damnu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tudy (198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981080"/>
          <a:ext cx="8534160" cy="4114800"/>
        </p:xfrm>
        <a:graphic>
          <a:graphicData uri="http://schemas.openxmlformats.org/drawingml/2006/table">
            <a:tbl>
              <a:tblPr/>
              <a:tblGrid>
                <a:gridCol w="2361960"/>
                <a:gridCol w="1905120"/>
                <a:gridCol w="2133720"/>
                <a:gridCol w="213336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d Damnum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1368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60ff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Ever Exceeded?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1368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60ff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warded Exactly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1368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60ff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verage Award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ff"/>
                      </a:solidFill>
                    </a:lnL>
                    <a:lnR w="13680">
                      <a:solidFill>
                        <a:srgbClr val="ff00ff"/>
                      </a:solidFill>
                    </a:lnR>
                    <a:lnT w="1368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60ffe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10,0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3 times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$18,0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1368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75,0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51%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$62,8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1368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150,0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29%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$101,4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1368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bstantial Compensation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3680">
                      <a:solidFill>
                        <a:srgbClr val="ff00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368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368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99"/>
                          </a:solidFill>
                          <a:latin typeface="Arial"/>
                        </a:rPr>
                        <a:t>$74,600</a:t>
                      </a:r>
                      <a:endParaRPr b="0" lang="en-US" sz="2400" spc="-1" strike="noStrike">
                        <a:solidFill>
                          <a:srgbClr val="ff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ff"/>
                      </a:solidFill>
                    </a:lnL>
                    <a:lnR w="1368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3680">
                      <a:solidFill>
                        <a:srgbClr val="ff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5DE-E605-41B5-8D72-16C0CAFAF4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nitive Damages in Business C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utura"/>
              </a:rPr>
              <a:t>Punitive Damages are most common in business cases (contract, fraud, employment) according to Eisenberg, et al.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Futura"/>
              </a:rPr>
              <a:t>The request for punitive damages tends to increase the size of the compensatory award, even if no punitive damages are awarded.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60ffe9"/>
              </a:buClr>
              <a:buFont typeface="Futu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ffe9"/>
                </a:solidFill>
                <a:latin typeface="Futura"/>
              </a:rPr>
              <a:t>When conduct is egregious and punitive damages are capped or unavailable, juries react by increasing compensatory awards</a:t>
            </a:r>
            <a:endParaRPr b="0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EPS-Consulting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B04-7752-48E5-8F5A-B0A6C36161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2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01:57:50Z</dcterms:created>
  <dc:creator>Alyssa Goodman</dc:creator>
  <dc:description/>
  <dc:language>en-US</dc:language>
  <cp:lastModifiedBy>Edward Schwartz</cp:lastModifiedBy>
  <cp:lastPrinted>2005-11-21T18:20:12Z</cp:lastPrinted>
  <dcterms:modified xsi:type="dcterms:W3CDTF">2005-11-21T18:29:15Z</dcterms:modified>
  <cp:revision>21</cp:revision>
  <dc:subject/>
  <dc:title>Gov 1335: Lecture 14</dc:title>
</cp:coreProperties>
</file>