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F0F-D123-4A90-BAFA-94958B40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C71-E110-4710-9FC8-E2DF3DF0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957-55A0-4355-B33E-FA663D38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D21-4D11-4035-8A25-6F1B633A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F99-BA53-43CA-ACC5-C9B6DA4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2CE-9321-4F76-BFD0-F2A65A32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810E-A70B-40C5-A7A6-43F08510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5A9A-7922-462C-B694-65B5167C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D725-34A8-4FAD-B245-5CD48CB9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AFEE-426E-4E6B-B3AF-56A557D6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5FA-7656-4973-A8C0-FA1C513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D92-0A67-4124-B617-C6BE091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A3B0-313B-450B-B6FE-4123435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1F4-CA30-4A0E-A757-3266E5C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F8A-A58E-4B18-AFF1-520D80D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D352-65DE-444E-884F-7395B3C7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61F-3BC4-48FE-B981-04C90134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A8F-5BB6-4F85-8784-D8D5BBA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A26-179B-4671-BD60-8927A28D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21E-A57A-4751-BE67-9075BBD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25-AC28-42EC-8F80-E87DE3B0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0BD-847C-4DCF-B58D-553756E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304-4795-4412-A3F4-CC7B7AE1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D5-27EE-4BE1-A162-F508E07C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152-461B-45DB-B3A8-D3E448F2538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E3B-C725-469E-9EB4-D561F4E44B3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09480"/>
            <a:ext cx="8076960" cy="160020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14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indsight Bias and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Probabilistic Processing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51460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Papyrus"/>
              </a:rPr>
              <a:t>Presented to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Papyrus"/>
              </a:rPr>
              <a:t>Costco Wholesale Defense Counsel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Papyrus"/>
              </a:rPr>
              <a:t>August 25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5105520"/>
            <a:ext cx="5562720" cy="9842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ward P. Schwar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EPS-Consulting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C62-10D7-4EB6-AB8C-C53245E2E5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440" y="609120"/>
            <a:ext cx="816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Distance between Seattle and Rio de Janei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81680" y="1941480"/>
            <a:ext cx="2936880" cy="3810600"/>
            <a:chOff x="5881680" y="1941480"/>
            <a:chExt cx="2936880" cy="3810600"/>
          </a:xfrm>
        </p:grpSpPr>
        <p:sp>
          <p:nvSpPr>
            <p:cNvPr id="122" name=""/>
            <p:cNvSpPr/>
            <p:nvPr/>
          </p:nvSpPr>
          <p:spPr>
            <a:xfrm>
              <a:off x="8024760" y="344808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81680" y="1941480"/>
              <a:ext cx="2127240" cy="3810600"/>
              <a:chOff x="5881680" y="1941480"/>
              <a:chExt cx="2127240" cy="38106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7454880" y="2273400"/>
                <a:ext cx="554040" cy="3195360"/>
                <a:chOff x="7454880" y="2273400"/>
                <a:chExt cx="554040" cy="3195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008920" y="2279520"/>
                  <a:ext cx="0" cy="3189240"/>
                </a:xfrm>
                <a:prstGeom prst="line">
                  <a:avLst/>
                </a:prstGeom>
                <a:ln cap="sq"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75400" y="5468760"/>
                  <a:ext cx="533520" cy="0"/>
                </a:xfrm>
                <a:prstGeom prst="line">
                  <a:avLst/>
                </a:prstGeom>
                <a:ln cap="sq"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54880" y="2273400"/>
                  <a:ext cx="533520" cy="0"/>
                </a:xfrm>
                <a:prstGeom prst="line">
                  <a:avLst/>
                </a:prstGeom>
                <a:ln cap="sq"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680160" y="5353200"/>
                <a:ext cx="7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il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16800" y="2143080"/>
                <a:ext cx="7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il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45040" y="5165640"/>
                <a:ext cx="750960" cy="576360"/>
              </a:xfrm>
              <a:prstGeom prst="rect">
                <a:avLst/>
              </a:prstGeom>
              <a:noFill/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81680" y="1941480"/>
                <a:ext cx="750960" cy="576360"/>
              </a:xfrm>
              <a:prstGeom prst="rect">
                <a:avLst/>
              </a:prstGeom>
              <a:noFill/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082520" y="968400"/>
            <a:ext cx="4017960" cy="4459320"/>
            <a:chOff x="1082520" y="968400"/>
            <a:chExt cx="4017960" cy="44593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1082520" y="2276640"/>
              <a:ext cx="315144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flipH="1" flipV="1">
              <a:off x="2033640" y="968040"/>
              <a:ext cx="3066480" cy="349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5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5807"/>
                </a:path>
              </a:pathLst>
            </a:custGeom>
            <a:noFill/>
            <a:ln cap="sq" w="38160">
              <a:solidFill>
                <a:srgbClr val="80008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701-D93D-4FDA-84C6-C648D14090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umber of Major League Baseball Players earning more than $2 million this seas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81680" y="1941480"/>
            <a:ext cx="2936880" cy="3853440"/>
            <a:chOff x="5881680" y="1941480"/>
            <a:chExt cx="2936880" cy="3853440"/>
          </a:xfrm>
        </p:grpSpPr>
        <p:grpSp>
          <p:nvGrpSpPr>
            <p:cNvPr id="137" name=""/>
            <p:cNvGrpSpPr/>
            <p:nvPr/>
          </p:nvGrpSpPr>
          <p:grpSpPr>
            <a:xfrm>
              <a:off x="7454880" y="2273400"/>
              <a:ext cx="554040" cy="3195360"/>
              <a:chOff x="7454880" y="2273400"/>
              <a:chExt cx="554040" cy="3195360"/>
            </a:xfrm>
          </p:grpSpPr>
          <p:sp>
            <p:nvSpPr>
              <p:cNvPr id="138" name=""/>
              <p:cNvSpPr/>
              <p:nvPr/>
            </p:nvSpPr>
            <p:spPr>
              <a:xfrm>
                <a:off x="8008920" y="2279520"/>
                <a:ext cx="0" cy="318924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75400" y="546876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54880" y="227340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024760" y="344808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94560" y="539604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lay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30840" y="2185920"/>
              <a:ext cx="9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lay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040" y="516564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1680" y="194148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3B3-45D1-44CA-9D06-E93FA5B924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75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station Time for a Hippopotamu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81680" y="1941480"/>
            <a:ext cx="2936880" cy="3883320"/>
            <a:chOff x="5881680" y="1941480"/>
            <a:chExt cx="2936880" cy="3883320"/>
          </a:xfrm>
        </p:grpSpPr>
        <p:grpSp>
          <p:nvGrpSpPr>
            <p:cNvPr id="149" name=""/>
            <p:cNvGrpSpPr/>
            <p:nvPr/>
          </p:nvGrpSpPr>
          <p:grpSpPr>
            <a:xfrm>
              <a:off x="7454880" y="2273400"/>
              <a:ext cx="554040" cy="3195360"/>
              <a:chOff x="7454880" y="2273400"/>
              <a:chExt cx="554040" cy="3195360"/>
            </a:xfrm>
          </p:grpSpPr>
          <p:sp>
            <p:nvSpPr>
              <p:cNvPr id="150" name=""/>
              <p:cNvSpPr/>
              <p:nvPr/>
            </p:nvSpPr>
            <p:spPr>
              <a:xfrm>
                <a:off x="8008920" y="2279520"/>
                <a:ext cx="0" cy="318924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75400" y="546876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54880" y="227340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8024760" y="344808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80160" y="542592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n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6800" y="2200320"/>
              <a:ext cx="9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n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5040" y="516564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1680" y="194148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86560" y="336060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8 mont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1480" y="2192400"/>
            <a:ext cx="492948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FA7-E5B0-49BE-9BB3-7FA142D4CC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Distance between Seattle and Rio de Janei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54880" y="2273400"/>
            <a:ext cx="554040" cy="3195360"/>
            <a:chOff x="7454880" y="2273400"/>
            <a:chExt cx="554040" cy="3195360"/>
          </a:xfrm>
        </p:grpSpPr>
        <p:sp>
          <p:nvSpPr>
            <p:cNvPr id="162" name=""/>
            <p:cNvSpPr/>
            <p:nvPr/>
          </p:nvSpPr>
          <p:spPr>
            <a:xfrm>
              <a:off x="8008920" y="2279520"/>
              <a:ext cx="0" cy="31892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5400" y="5468760"/>
              <a:ext cx="5335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4880" y="2273400"/>
              <a:ext cx="5335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024760" y="3448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80160" y="53532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16800" y="214308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5040" y="5165640"/>
            <a:ext cx="750960" cy="5763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81680" y="1941480"/>
            <a:ext cx="750960" cy="5763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9680" y="35924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987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82520" y="968400"/>
            <a:ext cx="4017960" cy="4459320"/>
            <a:chOff x="1082520" y="968400"/>
            <a:chExt cx="4017960" cy="44593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082520" y="2276640"/>
              <a:ext cx="315144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flipH="1" flipV="1">
              <a:off x="2033640" y="968040"/>
              <a:ext cx="3066480" cy="349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5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5807"/>
                </a:path>
              </a:pathLst>
            </a:custGeom>
            <a:noFill/>
            <a:ln cap="sq" w="38160">
              <a:solidFill>
                <a:srgbClr val="80008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A09-C18F-4013-9BE7-70E4764C7C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umber of Major League Baseball Players earning more than $2 million this seas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454880" y="2273400"/>
            <a:ext cx="554040" cy="3195360"/>
            <a:chOff x="7454880" y="2273400"/>
            <a:chExt cx="554040" cy="3195360"/>
          </a:xfrm>
        </p:grpSpPr>
        <p:sp>
          <p:nvSpPr>
            <p:cNvPr id="176" name=""/>
            <p:cNvSpPr/>
            <p:nvPr/>
          </p:nvSpPr>
          <p:spPr>
            <a:xfrm>
              <a:off x="8008920" y="2279520"/>
              <a:ext cx="0" cy="31892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5400" y="5468760"/>
              <a:ext cx="5335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4880" y="2273400"/>
              <a:ext cx="5335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024760" y="3448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94560" y="539604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0840" y="218592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y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5040" y="5165640"/>
            <a:ext cx="750960" cy="5763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81680" y="1941480"/>
            <a:ext cx="750960" cy="5763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7080" y="3319560"/>
            <a:ext cx="253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77 play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= 32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8080" y="179244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950-5239-4456-916E-B9BC7F4CB1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verconfidence in Estimat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"/>
              </a:rPr>
              <a:t>People tend to be overconfident in their own estim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0ffe9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ffe9"/>
                </a:solidFill>
                <a:latin typeface="Futura"/>
              </a:rPr>
              <a:t>People also generally believe that the world is more predictable and controllable than it really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Futura"/>
              </a:rPr>
              <a:t>This results in an attitude of “Well, if I had been in charge, something like this never would have happen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Futura"/>
              </a:rPr>
              <a:t>So, how do you counteract this type of attitu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930-261A-4638-AC5F-FBF93486DF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We’re all huma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00" y="2057400"/>
            <a:ext cx="877572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ust because your house caught on fire doesn’t make it a fire tra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Just because you had a car accident doesn’t make you a bad driv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fcf"/>
                </a:solidFill>
                <a:latin typeface="Arial"/>
              </a:rPr>
              <a:t>Just because you lost your car keys doesn’t make you irresponsi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Arial"/>
              </a:rPr>
              <a:t>Just because your kid fell down and had to go to the emergency room doesn’t make you a bad par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Just because you missed a deadline at work doesn’t make you a bad employe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Arial"/>
              </a:rPr>
              <a:t>Just because someone got hurt at Costco doesn’t make it an unsafe st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F9E-2585-40E2-931F-68FC587B90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377640"/>
            <a:ext cx="777240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babilistic 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800" y="1620720"/>
            <a:ext cx="8472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-year-old white woman takes FDA approved home AIDS t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tests positive for HIV and immediately calls her doc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 doctor puts her on aggressive anti-HIV drugs (HAART) and orders follow-up tes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3840" y="3225960"/>
            <a:ext cx="855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hile waiting for additional test results, the patient has an acute allergic reaction to her medi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Anaphylactic shock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Requires hospitaliz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Lapses into com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Loses her job as forest rang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Some permanent impair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6440" y="5727600"/>
            <a:ext cx="84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Arial"/>
              </a:rPr>
              <a:t>The follow-up tests come back negative for HI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2C7-63E5-49F1-ABA5-D2E714BCA4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pothetical Law Su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3160" y="1515960"/>
            <a:ext cx="87883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Patient sues her doc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tor should not have put her on medication until follow-up test results retur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tor should have discussed risks of treatment with her in greater det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Doctor defends treatme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test was FDA approved and very ac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DS is very aggressive disease, requiring aggressive trea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s of side effects were very 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rational patient, even had she been fully informed of all risks, would have refused prescribed treat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95C-C23A-49FB-9A7A-BE5557DAD8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Home HIV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400" y="2165400"/>
            <a:ext cx="82123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9.9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ffecti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dentifies virtually all HIV positive people. That is, there are </a:t>
            </a:r>
            <a:r>
              <a:rPr b="0" lang="en-US" sz="2800" spc="-1" strike="noStrike">
                <a:solidFill>
                  <a:srgbClr val="9affb3"/>
                </a:solidFill>
                <a:latin typeface="Arial"/>
              </a:rPr>
              <a:t>no </a:t>
            </a:r>
            <a:r>
              <a:rPr b="0" i="1" lang="en-US" sz="2800" spc="-1" strike="noStrike">
                <a:solidFill>
                  <a:srgbClr val="9affb3"/>
                </a:solidFill>
                <a:latin typeface="Arial"/>
              </a:rPr>
              <a:t>false 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orrectly identifies </a:t>
            </a:r>
            <a:r>
              <a:rPr b="0" lang="en-US" sz="2800" spc="-1" strike="noStrike">
                <a:solidFill>
                  <a:srgbClr val="caa2ff"/>
                </a:solidFill>
                <a:latin typeface="Arial"/>
              </a:rPr>
              <a:t>99.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HIV negative people. So, the rat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lse posit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caa2ff"/>
                </a:solidFill>
                <a:latin typeface="Arial"/>
              </a:rPr>
              <a:t>0.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 will incorrectly identify </a:t>
            </a:r>
            <a:r>
              <a:rPr b="0" lang="en-US" sz="2800" spc="-1" strike="noStrike">
                <a:solidFill>
                  <a:srgbClr val="ed9eff"/>
                </a:solidFill>
                <a:latin typeface="Arial"/>
              </a:rPr>
              <a:t>1 out of every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V- people as HIV+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CC4-89B4-42B4-8409-CFF5253065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vice on Trial Strate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66"/>
                </a:solidFill>
                <a:latin typeface="Arial"/>
              </a:rPr>
              <a:t>What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istical Verdict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ck Jury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What can we extrapolate from what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ence with Similar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cc"/>
                </a:solidFill>
                <a:latin typeface="Arial"/>
              </a:rPr>
              <a:t>What do we need to stud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 our own survey, focus group or mock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28A-F1E1-4919-8945-D466745FAF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364680"/>
            <a:ext cx="876636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s the patient likely to be HIV positive?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fore her tes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542960"/>
            <a:ext cx="9144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4, approximat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1 mill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meric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re living with HIV or A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3% of these, or </a:t>
            </a:r>
            <a:r>
              <a:rPr b="0" lang="en-US" sz="2400" spc="-1" strike="noStrike">
                <a:solidFill>
                  <a:srgbClr val="caa2ff"/>
                </a:solidFill>
                <a:latin typeface="Arial"/>
              </a:rPr>
              <a:t>253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re estimated to be </a:t>
            </a:r>
            <a:r>
              <a:rPr b="0" lang="en-US" sz="2400" spc="-1" strike="noStrike">
                <a:solidFill>
                  <a:srgbClr val="caa2ff"/>
                </a:solidFill>
                <a:latin typeface="Arial"/>
              </a:rPr>
              <a:t>wo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disproportionately affects the African American and Hispanic communities. Only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9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women living with HIV/AIDS in 2004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were 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such, approximately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50,000 white wo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3 and older) were estimated to be HIV positive in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epresents approximately </a:t>
            </a:r>
            <a:r>
              <a:rPr b="0" lang="en-US" sz="2400" spc="-1" strike="noStrike">
                <a:solidFill>
                  <a:srgbClr val="ff4c68"/>
                </a:solidFill>
                <a:latin typeface="Arial"/>
              </a:rPr>
              <a:t>0.06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is particular popul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such, approximately </a:t>
            </a:r>
            <a:r>
              <a:rPr b="0" lang="en-US" sz="2400" spc="-1" strike="noStrike">
                <a:solidFill>
                  <a:srgbClr val="ff4c68"/>
                </a:solidFill>
                <a:latin typeface="Arial"/>
              </a:rPr>
              <a:t>6 white women in 1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HIV posi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0C4-1E07-4952-A795-BB0EC6A665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364680"/>
            <a:ext cx="876636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s the patient likely to be HIV positive?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fter her tes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429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10,000 white women, number expected to be HIV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fter receiving positive test result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xpected # HIV+) X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b. Test wa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10,000 white women, number expected to be HIV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fter receiving positive test result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aa2ff"/>
                </a:solidFill>
                <a:latin typeface="Arial"/>
              </a:rPr>
              <a:t>9,99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xpected # HIV-) X </a:t>
            </a:r>
            <a:r>
              <a:rPr b="0" lang="en-US" sz="2400" spc="-1" strike="noStrike">
                <a:solidFill>
                  <a:srgbClr val="caa2ff"/>
                </a:solidFill>
                <a:latin typeface="Arial"/>
              </a:rPr>
              <a:t>0.00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b. Test wa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ro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caa2ff"/>
                </a:solidFill>
                <a:latin typeface="Arial"/>
              </a:rPr>
              <a:t>49.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that patient receiving positive test result i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t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V+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umber of HIV+ women receiving positive tests   =       6 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------------------------------------------------------------------      ------------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Number of total positive tests                          (6 + 49.75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bability that this patient was HIV+ was </a:t>
            </a:r>
            <a:r>
              <a:rPr b="0" lang="en-US" sz="2000" spc="-1" strike="noStrike" u="sng">
                <a:solidFill>
                  <a:srgbClr val="ff4c68"/>
                </a:solidFill>
                <a:uFillTx/>
                <a:latin typeface="Arial"/>
              </a:rPr>
              <a:t>about 11%</a:t>
            </a:r>
            <a:r>
              <a:rPr b="0" lang="en-US" sz="2000" spc="-1" strike="noStrike">
                <a:solidFill>
                  <a:srgbClr val="ff4c6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80440" y="4889520"/>
            <a:ext cx="1498320" cy="45972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= 0.10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CF4-2A7A-4475-83F8-67E64786B9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320400"/>
            <a:ext cx="7772400" cy="11430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ink Visually!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- Jurors do -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381400" y="1541520"/>
            <a:ext cx="4440240" cy="44402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grpSp>
        <p:nvGrpSpPr>
          <p:cNvPr id="207" name=""/>
          <p:cNvGrpSpPr/>
          <p:nvPr/>
        </p:nvGrpSpPr>
        <p:grpSpPr>
          <a:xfrm>
            <a:off x="173160" y="1544760"/>
            <a:ext cx="8797680" cy="4433760"/>
            <a:chOff x="173160" y="1544760"/>
            <a:chExt cx="8797680" cy="4433760"/>
          </a:xfrm>
        </p:grpSpPr>
        <p:sp>
          <p:nvSpPr>
            <p:cNvPr id="208" name=""/>
            <p:cNvSpPr/>
            <p:nvPr/>
          </p:nvSpPr>
          <p:spPr>
            <a:xfrm flipH="1">
              <a:off x="1630080" y="1557360"/>
              <a:ext cx="547560" cy="0"/>
            </a:xfrm>
            <a:prstGeom prst="line">
              <a:avLst/>
            </a:prstGeom>
            <a:ln cap="sq" w="38160">
              <a:solidFill>
                <a:srgbClr val="57c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625400" y="5978520"/>
              <a:ext cx="547560" cy="0"/>
            </a:xfrm>
            <a:prstGeom prst="line">
              <a:avLst/>
            </a:prstGeom>
            <a:ln cap="sq" w="38160">
              <a:solidFill>
                <a:srgbClr val="57c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6040" y="1544760"/>
              <a:ext cx="0" cy="4414680"/>
            </a:xfrm>
            <a:prstGeom prst="line">
              <a:avLst/>
            </a:prstGeom>
            <a:ln cap="sq" w="38160">
              <a:solidFill>
                <a:srgbClr val="57c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335240" y="3714840"/>
              <a:ext cx="272880" cy="0"/>
            </a:xfrm>
            <a:prstGeom prst="line">
              <a:avLst/>
            </a:prstGeom>
            <a:ln cap="sq" w="38160">
              <a:solidFill>
                <a:srgbClr val="57c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3160" y="3102120"/>
              <a:ext cx="125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7cf1f"/>
                  </a:solidFill>
                  <a:latin typeface="Arial"/>
                </a:rPr>
                <a:t>10,000 white wom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364440" y="1644480"/>
              <a:ext cx="2606400" cy="1227240"/>
              <a:chOff x="6364440" y="1644480"/>
              <a:chExt cx="2606400" cy="12272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364440" y="2251080"/>
                <a:ext cx="966600" cy="620640"/>
                <a:chOff x="6364440" y="2251080"/>
                <a:chExt cx="966600" cy="620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64440" y="2438280"/>
                  <a:ext cx="433080" cy="433440"/>
                </a:xfrm>
                <a:prstGeom prst="rect">
                  <a:avLst/>
                </a:prstGeom>
                <a:noFill/>
                <a:ln cap="sq" w="38160">
                  <a:solidFill>
                    <a:srgbClr val="57cf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6797520" y="2251080"/>
                  <a:ext cx="533520" cy="419040"/>
                </a:xfrm>
                <a:prstGeom prst="line">
                  <a:avLst/>
                </a:prstGeom>
                <a:ln cap="sq" w="38160">
                  <a:solidFill>
                    <a:srgbClr val="57cf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7302600" y="1644480"/>
                <a:ext cx="1668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7cf1f"/>
                    </a:solidFill>
                    <a:latin typeface="Arial"/>
                  </a:rPr>
                  <a:t>Each square represents 100 wom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7023240" y="2755800"/>
            <a:ext cx="1968480" cy="1054080"/>
            <a:chOff x="7023240" y="2755800"/>
            <a:chExt cx="1968480" cy="1054080"/>
          </a:xfrm>
        </p:grpSpPr>
        <p:sp>
          <p:nvSpPr>
            <p:cNvPr id="219" name=""/>
            <p:cNvSpPr/>
            <p:nvPr/>
          </p:nvSpPr>
          <p:spPr>
            <a:xfrm>
              <a:off x="7023240" y="2755800"/>
              <a:ext cx="1968480" cy="73332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But 50 will test positive even though they’re n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102880" y="3504960"/>
              <a:ext cx="139680" cy="3049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375240" y="3822840"/>
            <a:ext cx="2489400" cy="2178000"/>
            <a:chOff x="6375240" y="3822840"/>
            <a:chExt cx="2489400" cy="2178000"/>
          </a:xfrm>
        </p:grpSpPr>
        <p:sp>
          <p:nvSpPr>
            <p:cNvPr id="222" name=""/>
            <p:cNvSpPr/>
            <p:nvPr/>
          </p:nvSpPr>
          <p:spPr>
            <a:xfrm>
              <a:off x="6534000" y="5924520"/>
              <a:ext cx="282600" cy="47520"/>
            </a:xfrm>
            <a:prstGeom prst="rect">
              <a:avLst/>
            </a:prstGeom>
            <a:solidFill>
              <a:srgbClr val="800080"/>
            </a:solidFill>
            <a:ln cap="sq"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394320" y="3822840"/>
              <a:ext cx="1152720" cy="16891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38920" y="5095800"/>
              <a:ext cx="2016000" cy="905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50280" y="3835440"/>
              <a:ext cx="1314360" cy="1251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42240" y="418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08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02520" y="4927680"/>
              <a:ext cx="752400" cy="149040"/>
            </a:xfrm>
            <a:prstGeom prst="rect">
              <a:avLst/>
            </a:prstGeom>
            <a:solidFill>
              <a:srgbClr val="800080"/>
            </a:solidFill>
            <a:ln cap="sq"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62880" y="3848040"/>
              <a:ext cx="1289160" cy="609840"/>
            </a:xfrm>
            <a:prstGeom prst="rect">
              <a:avLst/>
            </a:prstGeom>
            <a:solidFill>
              <a:srgbClr val="ffff00">
                <a:alpha val="60000"/>
              </a:srgbClr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5240" y="5537160"/>
              <a:ext cx="432000" cy="222120"/>
            </a:xfrm>
            <a:prstGeom prst="rect">
              <a:avLst/>
            </a:prstGeom>
            <a:solidFill>
              <a:srgbClr val="ffff00">
                <a:alpha val="60000"/>
              </a:srgbClr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162920" y="5117760"/>
            <a:ext cx="1828800" cy="889200"/>
            <a:chOff x="7162920" y="5117760"/>
            <a:chExt cx="1828800" cy="889200"/>
          </a:xfrm>
        </p:grpSpPr>
        <p:sp>
          <p:nvSpPr>
            <p:cNvPr id="231" name=""/>
            <p:cNvSpPr/>
            <p:nvPr/>
          </p:nvSpPr>
          <p:spPr>
            <a:xfrm>
              <a:off x="7162920" y="5638680"/>
              <a:ext cx="1828800" cy="3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Arial"/>
                </a:rPr>
                <a:t>Only 6 are HIV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78840" y="5117760"/>
              <a:ext cx="88920" cy="507960"/>
            </a:xfrm>
            <a:prstGeom prst="line">
              <a:avLst/>
            </a:prstGeom>
            <a:ln cap="sq" w="38160">
              <a:solidFill>
                <a:srgbClr val="8000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46B-A80C-45CB-B75A-B74F50E659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0160" y="380880"/>
            <a:ext cx="868500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Arial"/>
              </a:rPr>
              <a:t>Good teachers make good witness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nk of jurors as interested college fresh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Pay closer atten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More receptive to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cc"/>
                </a:solidFill>
                <a:latin typeface="Arial"/>
              </a:rPr>
              <a:t>Greater cred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lking down to jurors can produce “reac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rors appreciate good teach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FB4-3FB3-43C4-960B-CC1D744E7A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nformation Aggreg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cc"/>
                </a:solidFill>
                <a:latin typeface="Arial"/>
              </a:rPr>
              <a:t>Meter Readers (Lopes, 1986, Hogarth and Einhorn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Algebra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Balan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Anchoring and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Story Tellers (Pennington and Hastie, 19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rrative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ek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prev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9A1-DA8D-467A-96C9-E59B5BB648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indsight Bi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5240" y="1676520"/>
            <a:ext cx="8813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"/>
              </a:rPr>
              <a:t>Jurors tend to treat low a probability event that actually occurs as much more likely than it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Futura"/>
              </a:rPr>
              <a:t>Jurors will believe it to have been more easily anticipated and will assign greater urgency to guarding agains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Futura"/>
              </a:rPr>
              <a:t>Jurors often conclude that manufacturers, utilities and doctors should have anticipated every conting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Futura"/>
              </a:rPr>
              <a:t>Jurors can be quick to blame victims who engage in intrinsically risky behavior, regardless of who might have been neg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6666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Futura"/>
              </a:rPr>
              <a:t>A second order effect is that the more bizarre the circumstances, the more jurors tend to believe that it must have been “somebody’s fault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E07-821C-48CE-B307-F6FD7EC8D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3880" y="3611520"/>
            <a:ext cx="77724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66"/>
                </a:solidFill>
                <a:latin typeface="Impact"/>
              </a:rPr>
              <a:t>Jurors HATE cost-benefit analysis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4520" y="289080"/>
            <a:ext cx="3030480" cy="2468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622240" y="1863360"/>
            <a:ext cx="3213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tencil"/>
              </a:rPr>
              <a:t>Beware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7800" y="239760"/>
            <a:ext cx="3103560" cy="254304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7C5-690F-4954-BFEF-3C9F51217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8280" y="393840"/>
            <a:ext cx="8381880" cy="1168200"/>
          </a:xfrm>
          <a:prstGeom prst="roundRect">
            <a:avLst>
              <a:gd name="adj" fmla="val 16667"/>
            </a:avLst>
          </a:prstGeom>
          <a:solidFill>
            <a:srgbClr val="25b8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uror Reaction to Cost-Benefit Analysis</a:t>
            </a:r>
            <a:br>
              <a:rPr sz="36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scusi Punitive Damages study, 2001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40" y="1638360"/>
            <a:ext cx="8661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y car electric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 awarded $800k per victim in compensatory da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1680" y="3327480"/>
          <a:ext cx="8076960" cy="2622600"/>
        </p:xfrm>
        <a:graphic>
          <a:graphicData uri="http://schemas.openxmlformats.org/drawingml/2006/table">
            <a:tbl>
              <a:tblPr/>
              <a:tblGrid>
                <a:gridCol w="2028600"/>
                <a:gridCol w="2016000"/>
                <a:gridCol w="2016360"/>
                <a:gridCol w="2016000"/>
              </a:tblGrid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Osaka"/>
                        </a:rPr>
                        <a:t>C/B Analysi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Osaka"/>
                        </a:rPr>
                        <a:t>Value of life 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Osaka"/>
                        </a:rPr>
                        <a:t>Proportion favoring puni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Osaka"/>
                        </a:rPr>
                        <a:t>Average punitive a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00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N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0.8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$2.91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Y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Cost: $4 million/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Compensato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award: $800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0.9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$4.02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Cost: $4 million/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NHTSA value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Osaka"/>
                        </a:rPr>
                        <a:t>$3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0.9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$5.31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44F-DDC2-4F9C-9A0F-5113416AD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Hindsight Bi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5240" y="1790280"/>
            <a:ext cx="8813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66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Futura"/>
              </a:rPr>
              <a:t>One strategy for overcoming hindsight bias is to argue by analogy to something familiar to jur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neezing while 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eenage babysi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kiing without a hel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6666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Futura"/>
              </a:rPr>
              <a:t>Avoid “zero-risk fallacy” jur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upplemental juror questionna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Safe career cho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Futura"/>
              </a:rPr>
              <a:t>Focus on positive safet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1A7-0903-4B67-86F2-20E661C65E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80880"/>
            <a:ext cx="8076960" cy="1219320"/>
          </a:xfrm>
          <a:prstGeom prst="roundRect">
            <a:avLst>
              <a:gd name="adj" fmla="val 16667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 prepared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240" y="1790280"/>
            <a:ext cx="8813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Futura"/>
              </a:rPr>
              <a:t>Witness Pr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mployees, exp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mulate aggressive cross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6666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Futura"/>
              </a:rPr>
              <a:t>Focus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hich arguments will f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Test exhibits for clarity and compreh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Can experts “teach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Futura"/>
              </a:rPr>
              <a:t>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ho are likely to be the “zero-risk fallacy” jur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Who will be sympathetic to safety concerns of Costco employ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ED4-BAF6-4FE8-B3B6-89F2F762EA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7200" y="609120"/>
            <a:ext cx="873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station Time for a Hippopotamu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881680" y="1941480"/>
            <a:ext cx="2936880" cy="3869280"/>
            <a:chOff x="5881680" y="1941480"/>
            <a:chExt cx="2936880" cy="3869280"/>
          </a:xfrm>
        </p:grpSpPr>
        <p:grpSp>
          <p:nvGrpSpPr>
            <p:cNvPr id="110" name=""/>
            <p:cNvGrpSpPr/>
            <p:nvPr/>
          </p:nvGrpSpPr>
          <p:grpSpPr>
            <a:xfrm>
              <a:off x="7454880" y="2273400"/>
              <a:ext cx="554040" cy="3195360"/>
              <a:chOff x="7454880" y="2273400"/>
              <a:chExt cx="554040" cy="3195360"/>
            </a:xfrm>
          </p:grpSpPr>
          <p:sp>
            <p:nvSpPr>
              <p:cNvPr id="111" name=""/>
              <p:cNvSpPr/>
              <p:nvPr/>
            </p:nvSpPr>
            <p:spPr>
              <a:xfrm>
                <a:off x="8008920" y="2279520"/>
                <a:ext cx="0" cy="318924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75400" y="546876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54880" y="2273400"/>
                <a:ext cx="5335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8024760" y="344808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94560" y="5411880"/>
              <a:ext cx="9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n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6800" y="2200320"/>
              <a:ext cx="9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n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5040" y="516564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1680" y="1941480"/>
              <a:ext cx="750960" cy="576360"/>
            </a:xfrm>
            <a:prstGeom prst="rect">
              <a:avLst/>
            </a:prstGeom>
            <a:noFill/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1480" y="2192400"/>
            <a:ext cx="492948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D29-1E1C-4D9A-8E01-CEBDF461C5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2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01:57:50Z</dcterms:created>
  <dc:creator>Alyssa Goodman</dc:creator>
  <dc:description/>
  <dc:language>en-US</dc:language>
  <cp:lastModifiedBy>Edward Schwartz</cp:lastModifiedBy>
  <cp:lastPrinted>2006-08-07T21:28:43Z</cp:lastPrinted>
  <dcterms:modified xsi:type="dcterms:W3CDTF">2006-08-18T19:57:27Z</dcterms:modified>
  <cp:revision>55</cp:revision>
  <dc:subject/>
  <dc:title>Gov 1335: Lecture 14</dc:title>
</cp:coreProperties>
</file>